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57CD-6E45-4AA3-81A5-35EEA1F6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4082-0EBF-43BD-9889-ECCDFF7C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D17-D801-4864-9344-A5AD7552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0B7-B5BB-4A1F-80BC-C681F01A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8329-4C50-4A83-9E30-D34A0B81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09C8-E1EE-4C10-BE21-763EF27B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8BA3-D1FA-4871-8738-EBE1AA37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6E84-7E18-4F71-898E-F179AF92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0230-4B7B-4892-8F1B-78B09EC4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9978-9149-4646-B59A-75A42450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AF4D-DFC4-4B0C-BBA2-372824E1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8E32-6208-4CCD-B025-530A1AF8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548E-B38A-42A3-827F-703EE7CB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5818-3106-46C6-9D51-D998F33E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C018-833E-4B65-A650-6AF75CCB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F1CC-8875-4AEF-AADF-05A3EB9D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4FC4-2111-4D12-A8FC-4A68A97E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412-4FC7-4169-BF1F-2043650A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D8D-5653-4150-AA97-98029E76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BFFB-D735-4DB5-AF2B-70CD26DD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AB56-A891-4C74-B5C6-230FD40E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4D0-F765-44A2-A237-8CC9F41D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BDF-F09D-44D6-8B5A-DCD35807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1B42-EE0B-4826-B814-CC0D4CB2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CE10-AEE2-4CA6-A06B-FE3F59AEAC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0D35-1B81-4F6E-8875-3577DC7661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atching Up From Last Less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llowed 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#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oppressed by the Midianit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6:1-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hovah hears Israel’s cry, v7-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deon C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deon Destroys The Altar of Ba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ianites Gather Against Isr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Gives Gideon S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deon Prepares His A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ttle (7:19-2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ictory (7:24 - 8: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 The Days of The Jud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3, Lesson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s 8:4 – 9:5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. 74-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deon Kills Other Midianite Leaders  8:4-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hraim Angry For Not Being Called To He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Gives Them Credit For Their Impor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Slays Zebah &amp; Zalmunna, Kings of Mid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Asks Gideon To Rule Over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: “God Shall Rule Over You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-15840"/>
            <a:ext cx="8305920" cy="695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phod Becomes An Item of Worship – 8:22-3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Made An Ephod of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Played The Harlot After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lso A Snare To Gide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Had Many Wives &amp; 70 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melech Was A Son To A Concub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Dies &amp; Is Buried In Ophr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Turns Again To Serve Baal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9724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438280" y="765000"/>
            <a:ext cx="6705720" cy="5612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33520" y="1600200"/>
            <a:ext cx="13716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deon Kills Other Midianite Lea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80880" y="50292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ccoth – Today Tell Deir Al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Fords of Jabbok from north"/>
          <p:cNvPicPr/>
          <p:nvPr/>
        </p:nvPicPr>
        <p:blipFill>
          <a:blip r:embed="rId2"/>
          <a:stretch/>
        </p:blipFill>
        <p:spPr>
          <a:xfrm>
            <a:off x="5105520" y="1447920"/>
            <a:ext cx="3809880" cy="2371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410080" y="4038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enu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imele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 God-Appointed Ju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lf-Appointed, Wicked Lea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eement With The Men of Shechem 9:1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lls His Brothers, All Except Joth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tham Reproves. 7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ship Deteriorates – 22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al Challenges Abimelech -26-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imele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bul Sends Word of Gaal’s Revolt to Abimelech  30-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melech Attacks Shechem  34-4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, He Tries To Burn The Tower of Theb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oman Throws Down A Millstone And Cracks His Sku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sks A Servant To Finish Him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of Pu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d Israel 23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dianites Gather Against Isra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:33-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ianites, and others east of Jordan, came across the Jordan to the valley of Jezreel, v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pirit of the Lord came upon Gideon and he blew the “call” trumpet, v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, Manasseh and other northern tribes met Gideon, v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ilead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d Israel 22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30 Sons On 30 Co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d, Buried in Ka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Turns Away Again &amp; Is Delivered to Philistines &amp; Ammonites For 18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rrow And Realization of Need Fo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ick Summary of Gide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ression of the Midian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 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de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Fifth Ju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gel Jehov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Overthrows The Altar of Ba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Musters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gns of the Flee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ice of 300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umpets, Lamps, &amp; Pitc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Gideon To Ja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deon Refuses The C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Makes An Ep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melech Murders Gideon’s Sons And Becomes King At Shec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able of Joth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olt Against Abimel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ruction of Shec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 of Abimel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la &amp; J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114800" cy="2664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380880" y="2971800"/>
            <a:ext cx="31528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lboa View of Jezreel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267080" y="228600"/>
            <a:ext cx="4673880" cy="3490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343400" y="38098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arod Valley of Jezre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228600" y="3395520"/>
            <a:ext cx="3638520" cy="3462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648320" y="4194000"/>
            <a:ext cx="3657600" cy="2664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80880" y="990720"/>
            <a:ext cx="1676520" cy="5486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162920" y="1676520"/>
            <a:ext cx="1371600" cy="4114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d Gives Gideon Sig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nfirmation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uld save Israe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6:36-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spoke to Go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ill put a fleece of wool on the fl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sig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f dew is on the fleece but not on the fl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sig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f dew is on the floor but not on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4270320" cy="28224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Prepares His Ar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:1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ed with 32,000 men in his a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aid he had too many men, v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0 Men And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Prepares His Ar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lessons do we learn from these numbers and these tes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Romans 8: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parations For The Att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7:9-1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told to go to the Midianite camp and listen, v9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built up his confidence, v13-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, his strategy, v16-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told his army: “Do as I d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24004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attle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7:19-2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army followed his instructions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ked after the night watch chan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w the trump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ke the pitchers revealing the la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ed, “The sword of the Lord and of Gideon, v19-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nfusion, the Midianites slaughtered each other.  The rest ran, but were pursued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22-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48040" cy="30481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Victory (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:24 - 8: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 sent to Ephraimites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 the Midianites passage over the Jordan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tured 2 leaders of the Midianites and cut off their heads, 24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the Ephraimites complain, 8: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: Isn’t the gleaning of Ephraim better than the harvest of Abiezer?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8:2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02:32:35Z</dcterms:created>
  <dc:creator>Terry W. Benton</dc:creator>
  <dc:description/>
  <dc:language>en-US</dc:language>
  <cp:lastModifiedBy>PINE LANE</cp:lastModifiedBy>
  <dcterms:modified xsi:type="dcterms:W3CDTF">2005-02-11T20:44:25Z</dcterms:modified>
  <cp:revision>5</cp:revision>
  <dc:subject/>
  <dc:title>In The Days of The Judges</dc:title>
</cp:coreProperties>
</file>